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A1E-5825-48BB-9C4D-F0388EBD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844-FFD8-49C1-B71A-24B2E887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F30-8697-4526-81AD-83D44E1C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144-C8DE-4EF8-A039-534962C1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89F-281D-4B5D-A941-EC953CCC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0F8-C823-4708-B219-76133A8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9FE-E93B-497D-997E-2DF05972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5FF-FBFF-40E6-8604-7084EC0E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64E-278B-430D-A9DC-6AE66010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541-45C2-43F0-A7FF-04E9FA14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89C-FE18-4446-A2C3-A65859F2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DDE-473B-4757-893D-EB681F1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BA88-98CB-4152-B24F-F5C7EF333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324000" y="1920960"/>
            <a:ext cx="857088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для презент. тонкий лед\02.jpg"/>
          <p:cNvPicPr/>
          <p:nvPr/>
        </p:nvPicPr>
        <p:blipFill>
          <a:blip r:embed="rId2"/>
          <a:stretch/>
        </p:blipFill>
        <p:spPr>
          <a:xfrm>
            <a:off x="142920" y="0"/>
            <a:ext cx="2071800" cy="1654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1017720" y="817560"/>
            <a:ext cx="7632720" cy="4626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давайтесь панике! Берегите сил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 Делайте попытки ещё и ещё, если не получилось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988640"/>
            <a:ext cx="828036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равила оказания помощи человеку, провалившемуся под лё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1"/>
          <a:stretch/>
        </p:blipFill>
        <p:spPr>
          <a:xfrm>
            <a:off x="609480" y="60480"/>
            <a:ext cx="7998120" cy="3414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1857240" y="3500280"/>
            <a:ext cx="51436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вытащите пострадавшего на лед, и вместе ползком выбирайтесь из опасной з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ьте пострадавшего в теплое место. Окажите ему помощь: снимите с него мокрую одежду, энергично разотрите тело (до покраснения кожи) смоченной в спирте или водке суконкой или руками, напоите пострадавшего горячим чае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CHS-3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4681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rcRect l="0" t="0" r="-4735" b="0"/>
          <a:stretch/>
        </p:blipFill>
        <p:spPr>
          <a:xfrm>
            <a:off x="6300720" y="50133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удьте внимательны и осторожны на льду водоёмов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блюдение этого совета может привести к беде. К сожалению, помощь попавшим в беду на воде приходит иногда слишком поздно, и происшествие заканчивается трагически. Чтобы этого не случилось, необходимо помнить, что выходить на лед можно только в крайнем случае и с максимальной осторож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95280" y="333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ЗИМНИЕ ЗАБА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CHS-1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6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Picture 2" descr="C:\Documents and Settings\Admin\Рабочий стол\для презент. тонкий лед\22532.jpg"/>
          <p:cNvPicPr/>
          <p:nvPr/>
        </p:nvPicPr>
        <p:blipFill>
          <a:blip r:embed="rId2"/>
          <a:stretch/>
        </p:blipFill>
        <p:spPr>
          <a:xfrm>
            <a:off x="4716360" y="1484280"/>
            <a:ext cx="3888000" cy="369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00040" y="428760"/>
            <a:ext cx="8229600" cy="32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ой лед на водоемах рыхлый и непрочный. В это время выходить на его поверхность крайне опасно. Однако  многие люди пренебрегают мерами предосторожности и выходят на тонкий лед, тем самым, подвергая свою жизнь смертельной опас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859280" y="422100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8548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одного человека считается лед толщиною не менее 10 сантиметров, для группы – не менее- 15 сантимет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353440" cy="23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для презент. тонкий лед\Копия 1287453_400_300_source.jpg"/>
          <p:cNvPicPr/>
          <p:nvPr/>
        </p:nvPicPr>
        <p:blipFill>
          <a:blip r:embed="rId2"/>
          <a:stretch/>
        </p:blipFill>
        <p:spPr>
          <a:xfrm>
            <a:off x="2666880" y="3060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олуб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вета – прочный, белый или желтоватый-</a:t>
            </a: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 ненадежен</a:t>
            </a:r>
            <a:r>
              <a:rPr b="0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1"/>
          <a:stretch/>
        </p:blipFill>
        <p:spPr>
          <a:xfrm>
            <a:off x="684360" y="2635200"/>
            <a:ext cx="7632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8760" y="428760"/>
            <a:ext cx="822960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ПАСНЫЕ М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755640" y="1197000"/>
            <a:ext cx="74502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1857240" y="428760"/>
            <a:ext cx="492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692360" y="220500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их местах на водоёмах  лёд бывает не про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Dell</cp:lastModifiedBy>
  <dcterms:modified xsi:type="dcterms:W3CDTF">2020-11-03T08:14:34Z</dcterms:modified>
  <cp:revision>87</cp:revision>
  <dc:subject/>
  <dc:title>ГИДРОДИНАМИЧЕСКИЕ АВАРИИ</dc:title>
</cp:coreProperties>
</file>